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EAF-1882-4E2E-821D-3139BE68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E7A-DE78-4B71-AA5A-2354B306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EB0-114D-4EC8-ACFC-C2FCA2E1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F1E-0101-4172-999B-0C26920C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74F5-312A-47E3-A082-8C0007B5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D45D-44F2-46F0-AD19-18E44CD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F4B1-A197-4A84-B56B-36F5490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D07-83FE-40F0-A2FE-98B78D9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5E85-049D-40B8-B97C-A3996DBC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8E9B-DB62-4834-AB7C-2CB0AA67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3414-1681-4C8C-B2CE-EAFAD1E6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A86-3586-4D95-B3A8-D6BBBE3E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D16B-5DAD-488E-9F9C-7D2CEDC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925A-5375-4ACD-A3C8-8032D1C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838-5BFC-49DB-992B-80E8B3E3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74B-63C3-4F05-9838-085D478A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8C2-04F1-451B-99B1-8337FADF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CC3-CD83-4FAB-9E8A-950FA58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01C-53AF-46DF-B12E-1E6758E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C83-62C7-49C3-84D0-B6F86170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EC0-AE86-4D33-9B9B-9493FC35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6B7-784E-465E-BE35-43BB955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597-B37E-400A-A613-98E55A60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123-56BA-4838-872B-2F69163D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6A27-A48F-48B9-BF99-A72AD8CEB9A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12A7-25AE-42B0-989F-6D1AD11ACC0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Way We Ar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mographic Look at what makes Americans the same and Different (Wilson 4 and 5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Ide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t of beliefs about politics and public policy that creates the structure for looking at government and public polic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dical –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rapid, fundamental change to existing order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beral – supports active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derate – takes bits of liberal and conserv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servative – supports limited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actionary – return to previous state of affai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lture W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thodo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ality over self-expres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nks morals need to remain the sa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gressi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sonal freedom over traditional ru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nk morals need to change with the tim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 just right vs. left (often fights within constituent group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ult Li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coming the “baby sitter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unmoral examp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strust in Gover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ttle confidence in helping, more likely to hur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ult Li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itical Effica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ternal – Understand political affai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mains stead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rnal – Ability to make it work for yo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as decreased since the 1970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litical Toler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 tolerant are you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Electoral College Map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Election Map by Coun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1206360"/>
            <a:ext cx="9144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Election Map by % w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0" y="1295280"/>
            <a:ext cx="911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2008 Primary Election Map (Dem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rcRect l="0" t="0" r="18999" b="0"/>
          <a:stretch/>
        </p:blipFill>
        <p:spPr>
          <a:xfrm>
            <a:off x="0" y="888840"/>
            <a:ext cx="91440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Cultu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t of basic values and beliefs about the country or government that is shared by most citize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lson believes it is a balance between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al / Social belief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onomic belief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ology (a consistent set of personal beliefs) should not be confused with Political Cult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Cultu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merican Democratic Values (common to all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jority/minority righ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ividual Freedo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rom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mited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litical Socializ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 of these influence the creation of a political ident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amily and home influen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oup Affil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graphic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 Me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pinion lead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ays that color our view of the world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1941120"/>
            <a:ext cx="3862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 6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der 3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ma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l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testa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wis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m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462040" y="1941480"/>
            <a:ext cx="38624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usli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.S. Gr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llege Gr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ue Collar job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te Collar job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on job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rican-America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ti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24480" y="1941480"/>
            <a:ext cx="28195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the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ulf Co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d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t. 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st Co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3805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triotism (201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320" y="12952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proud to be an America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2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ery proud to be an America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ttle proud or not prou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67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is patriotic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edge 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king hard 62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nteering 61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ying taxes 61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pting what officials say 11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conomic Equality (201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ernment needs to help poor (25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ard work guarantees success (74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vernment should guarantee basic needs (75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uses of pover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ck of effor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ircumstances beyond contro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9%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ligion (199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never doubt existence of God (60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ayer is an important part of my life (77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ear distinction between good and evil (79%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 Highest in the Industrial Wor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2% Americans are “religious peopl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et 40% claim to attend weekly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ligion (201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merican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lieve in Go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2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ay dail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8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church at least once a month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4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3:41:20Z</dcterms:created>
  <dc:creator>Brent J. Freccia</dc:creator>
  <dc:description/>
  <dc:language>en-US</dc:language>
  <cp:lastModifiedBy>Authorized User</cp:lastModifiedBy>
  <dcterms:modified xsi:type="dcterms:W3CDTF">2011-10-12T13:32:47Z</dcterms:modified>
  <cp:revision>6</cp:revision>
  <dc:subject/>
  <dc:title>Political Culture</dc:title>
</cp:coreProperties>
</file>